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145-4CD5-42ED-8CAB-56434750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AF6-99C0-4671-8498-50EC11E2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A67-A861-462A-9901-6FEC960E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3BF-11B8-457B-A5C4-A95CA430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61D5-C22D-4C09-AD89-93FAF9AB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D8EC-27A8-4C54-AE0F-C10F1A90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423C-67AF-459B-A91F-94A3738C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9E0E-0785-4694-B2CE-51048065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13D1-CD4B-4D07-83DF-2E7CFFA5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CDAB-7644-4052-96C8-8EF9CF2A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0831-9CC6-478A-B348-9B6193C9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9BB-FC54-4171-8203-B8B156BB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B076-85B8-4CFD-B32F-115B6811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A784-66CB-418D-8FDD-F887B774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4930-1D23-4A45-A339-7E448FDD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1987-E8B0-4302-B838-B2011797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3CF9-A437-4601-9215-88FFEC37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3562-B985-477C-91E2-865345E2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85C-6B38-4EA5-8196-CE6B83FD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647-D1A4-46CF-A9F5-45B62AE6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061-69C4-4F31-B9BA-A3612E87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C36-BFA0-4E6A-B2AE-DD02D827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28B-EA87-483D-B73F-D257D358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E33-D976-4830-9871-7AB1F83C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9EB5-A5D9-47C7-96A6-0D70A4EC1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B67B-FCC8-4B37-9F5B-3BF33BDB4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aR0b4QRhfU0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Density cont.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040" y="320004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nsity = Mass / 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is the unit g/mL (or g/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or chemical proper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ould this happ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e9090"/>
                </a:solidFill>
                <a:uFillTx/>
                <a:latin typeface="Arial"/>
                <a:hlinkClick r:id="rId2"/>
              </a:rPr>
              <a:t>http://www.youtube.com/watch?v=aR0b4QRhfU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packet of Nutrasweet sweetens a drink as much as 3 packets of sug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n of either type of coke has a volume of 355 m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types of Coke have 355 g of non-sweetener materi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t Coke has .1 g of Nutrasw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ke has 39 g of sug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resu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Buoyanc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imedes Principle: Any object, wholly or partly immersed in a fluid, is buoyed up by a force equal to the weight of the fluid displaced by the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hether something sinks or floats depends on how much water it displaces, and since the amount of water it displaces is based upon its density, density influences sinking and floa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Buoyanc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28.3 L) of fresh water has a mass of approximatel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28.30 k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’s say you put an object with a volume of 1 f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to water, and this object has a mass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8.58 k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force is the water pushing up with?  What force is the object pushing down with?  So does it sink or flo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Buoyanc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3bd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bdbd"/>
                </a:solidFill>
                <a:latin typeface="Arial"/>
              </a:rPr>
              <a:t>1 ft</a:t>
            </a:r>
            <a:r>
              <a:rPr b="0" lang="en-US" sz="3200" spc="-1" strike="noStrike" baseline="30000">
                <a:solidFill>
                  <a:srgbClr val="d3bdbd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d3bdbd"/>
                </a:solidFill>
                <a:latin typeface="Arial"/>
              </a:rPr>
              <a:t> (28.3 L) of fresh water has a mass of approximately 28.30 k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3bd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bdbd"/>
                </a:solidFill>
                <a:latin typeface="Arial"/>
              </a:rPr>
              <a:t>Let’s say you put an object with a volume of 1 ft</a:t>
            </a:r>
            <a:r>
              <a:rPr b="0" lang="en-US" sz="2800" spc="-1" strike="noStrike" baseline="30000">
                <a:solidFill>
                  <a:srgbClr val="d3bdbd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d3bdbd"/>
                </a:solidFill>
                <a:latin typeface="Arial"/>
              </a:rPr>
              <a:t> into water, and this object has a mass of 28.58 k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d3bdbd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bdbd"/>
                </a:solidFill>
                <a:latin typeface="Arial"/>
              </a:rPr>
              <a:t>What force is the water pushing up with?  What force is the object pushing down with?  So does it sink or flo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say you put that object in salt water, 1 f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hich has a mass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9.0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force is the water pushing up with?  What force is the object pushing down with?  So does it sink or flo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y of Archime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ound 250 B.C., the Greek mathematician Archimedes was given the task of determining whether a crown that had been fashioned for the King of Syracuse was really made of pure gold. He wrestled with the problem as he relaxed into a bathing pool, and when he saw water spill over the edge of the pool upon submerging himself, arrived at his answ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y of Archime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3bd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3bdbd"/>
                </a:solidFill>
                <a:latin typeface="Arial"/>
              </a:rPr>
              <a:t>Around 250 B.C., the Greek mathematician Archimedes was given the task of determining whether a crown that had been fashioned for the King of Syracuse was really made of pure gold. He wrestled with the problem as he relaxed into a bathing pool, and when he saw water spill over the edge of the pool upon submerging himself, arrived at his answ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qual mass of silver occupies more space than gold, therefore, a mixed silver and gold crown would displace more water than a pure gold crown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ould you use water, gold, and silver to figure out if the crown is pure gol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y of Archime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3bd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3bdbd"/>
                </a:solidFill>
                <a:latin typeface="Arial"/>
              </a:rPr>
              <a:t>Around 250 B.C., the Greek mathematician Archimedes was given the task of determining whether a crown that had been fashioned for the King of Syracuse was really made of pure gold. He wrestled with the problem as he relaxed into a bathing pool, and when he saw water spill over the edge of the pool upon submerging himself, arrived at his answ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qual mass of silver occupies more space than gold, therefore, a mixed silver and gold crown would displace more water than a pure gold crown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placed the test crown in one tub of water and a hunk of pure gold with the exact same mass in another.  More water was displaced by the test crown; the king had been defrauded by the craftsm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dens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an you use the density formula to solve for missing valu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morrow: we continue our long-standing thread of examining physical and chemical properties by finally zooming in on why different things have different properties…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 Practice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Homework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den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density formula to solve for missing val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a Lava Lamp wor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density have to do with floa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30387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ould be the possible uses of knowing something’s dens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ss is the amount of matter that something has.  It is not the same thing as we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olume is the amount of space that something takes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mass?  Same volume?  Same dens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63849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mass?  Volume?  Dens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733920"/>
            <a:ext cx="1371600" cy="1523880"/>
          </a:xfrm>
          <a:prstGeom prst="cube">
            <a:avLst>
              <a:gd name="adj" fmla="val 25000"/>
            </a:avLst>
          </a:prstGeom>
          <a:solidFill>
            <a:srgbClr val="ae4c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2743200"/>
            <a:ext cx="2971800" cy="2971800"/>
          </a:xfrm>
          <a:prstGeom prst="cube">
            <a:avLst>
              <a:gd name="adj" fmla="val 25000"/>
            </a:avLst>
          </a:prstGeom>
          <a:solidFill>
            <a:srgbClr val="ae4c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411480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419720"/>
            <a:ext cx="38124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495680"/>
            <a:ext cx="380880" cy="38124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4191120"/>
            <a:ext cx="38124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480060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876920"/>
            <a:ext cx="38124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419112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457200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457200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02920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3657600"/>
            <a:ext cx="38124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3581280"/>
            <a:ext cx="380880" cy="38124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mass?  Volume?  Dens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733920"/>
            <a:ext cx="1371600" cy="1523880"/>
          </a:xfrm>
          <a:prstGeom prst="cube">
            <a:avLst>
              <a:gd name="adj" fmla="val 25000"/>
            </a:avLst>
          </a:prstGeom>
          <a:solidFill>
            <a:srgbClr val="ae4c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124080"/>
            <a:ext cx="2362320" cy="2590920"/>
          </a:xfrm>
          <a:prstGeom prst="cube">
            <a:avLst>
              <a:gd name="adj" fmla="val 25000"/>
            </a:avLst>
          </a:prstGeom>
          <a:solidFill>
            <a:srgbClr val="ae4c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419112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480060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4876920"/>
            <a:ext cx="38124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41972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457200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952880"/>
            <a:ext cx="380880" cy="38124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5029200"/>
            <a:ext cx="38124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396252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4038480"/>
            <a:ext cx="381240" cy="38124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6:00:04Z</dcterms:created>
  <dc:creator>Rebecca Stang</dc:creator>
  <dc:description/>
  <dc:language>en-US</dc:language>
  <cp:lastModifiedBy>Rebecca Stang</cp:lastModifiedBy>
  <dcterms:modified xsi:type="dcterms:W3CDTF">2009-10-27T13:58:42Z</dcterms:modified>
  <cp:revision>49</cp:revision>
  <dc:subject/>
  <dc:title>PowerPoint Presentation</dc:title>
</cp:coreProperties>
</file>